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9C4B-822C-44CC-8BBE-93593B2DAAB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図４．湿地サービスの統合的評価と価値評価の枠組み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［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www.biwa.ne.jp/%7enio/ramsar/cop9/cop9doc24f4j.ppt.zip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］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［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凡例］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FU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多機能利用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EV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全経済価値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EI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環境影響評価；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D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意思決定支援システム；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CB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コスト・ベネフィット分析；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C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＝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マルチクライテリア分析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ラムサール条約第９回締約国会議文書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4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：情報文書「『湿地目録、評価及びモニタリングの統合的枠組み』（決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X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１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付属書Ｅ）に含まれる評価ツール」．原文：ラムサール条約，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005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年；日本語訳：琵琶湖ラムサール研究会，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2006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年．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http://www.biwa.ne.jp/%7enio/ramsar/cop9/cop9_doc24_j.htm</a:t>
            </a: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．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C44-856D-45FD-BA39-200E6E56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AFF-2F0C-4B5E-960C-83E157CB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93E-5EA0-4F8F-950D-F2F8FF95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D1A-E334-4814-9D80-83AF52D8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451-EEFA-4E03-9F49-75667E3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ACB-BE7C-4FA2-9B80-2AEBD6EB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A39-331E-456C-9EE8-D8B4D53B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29A-0AE0-4F86-8879-8207287B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12C-7423-496B-95F9-2AA29DFB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9CD-2EA0-4E5B-9440-29353C66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89F-E510-4012-924E-163BAAB3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3C5-2146-4928-A314-691366A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5B56-BB5C-4346-8C03-A128F7418A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495680" cy="914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52480" y="768240"/>
            <a:ext cx="2971800" cy="97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１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政策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価値評価の目的，政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　・制度状況の明確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905120"/>
            <a:ext cx="99072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M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1905120"/>
            <a:ext cx="106668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1905120"/>
            <a:ext cx="1066680" cy="914400"/>
          </a:xfrm>
          <a:prstGeom prst="flowChartDecision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ゴシック"/>
              </a:rPr>
              <a:t>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053520"/>
            <a:ext cx="4724280" cy="728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２．利害関係者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特定と優先順位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4075920"/>
            <a:ext cx="3809880" cy="10029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３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機能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財とサービスの特定と数量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支持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調整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供給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文化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5254560"/>
            <a:ext cx="3809880" cy="97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４．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財とサービスの価値評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（財とサービスの重要性の数量化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生態学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社会文化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[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経済的</a:t>
            </a:r>
            <a:r>
              <a:rPr b="0" lang="de-DE" sz="16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6553080"/>
            <a:ext cx="259092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レードオフ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例：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CBA</a:t>
            </a: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，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CA</a:t>
            </a:r>
            <a:r>
              <a:rPr b="0" lang="nl-NL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6477120"/>
            <a:ext cx="1143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参加型ア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プロー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6477120"/>
            <a:ext cx="914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7594560"/>
            <a:ext cx="19810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政策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0360" y="7594560"/>
            <a:ext cx="27241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管理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201160"/>
            <a:ext cx="5029200" cy="485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５．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対話と普及活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962520"/>
            <a:ext cx="60984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利害関係者の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038480"/>
            <a:ext cx="6098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専門家への諮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99840" y="12952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295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38560" y="17524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219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219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38560" y="3733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3856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3856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6934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6934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6176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7467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746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66520" y="7772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7467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7772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6840" y="7772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57200" y="228600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324480" y="23619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27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7848720"/>
            <a:ext cx="304560" cy="7596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32" y="24"/>
                  <a:pt x="64" y="0"/>
                  <a:pt x="96" y="0"/>
                </a:cubicBezTo>
                <a:cubicBezTo>
                  <a:pt x="128" y="0"/>
                  <a:pt x="176" y="40"/>
                  <a:pt x="19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66520" y="7924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7924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81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181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905120"/>
            <a:ext cx="449568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6:09:31Z</dcterms:created>
  <dc:creator>原文：ラムサール条約；日本語訳：琵琶湖ラムサール研究会，2006年．</dc:creator>
  <dc:description/>
  <dc:language>en-US</dc:language>
  <cp:lastModifiedBy>BRK</cp:lastModifiedBy>
  <dcterms:modified xsi:type="dcterms:W3CDTF">2008-06-18T03:26:23Z</dcterms:modified>
  <cp:revision>19</cp:revision>
  <dc:subject/>
  <dc:title>ＣＯＰ９文書24図４「湿地サービスの統合的評価と価値評価の枠組み」</dc:title>
</cp:coreProperties>
</file>