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73E9-8A65-4AD1-B92B-E446B0BD5C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英語原典：ラムサール条約事務局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World Wetlands Day 2009 Materials: Comic strip 1.  [jpeg file 586 KB] http://ramsar.org/pictures/wwd2009-aa-comic1-e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ならびに文字無し画像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[jpeg file 530 KB] http://ramsar.org/pictures/wwd2009-aa-comic1-no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和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http://www.biwa.ne.jp/%7enio/ramsar/outreach/wwd2009comic1j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条約事務局の文字無し画像の上に和訳文を表記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英語原典：ラムサール条約事務局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World Wetlands Day 2009 Materials: Comic strip 2.  [jpeg file 1.5 MB] http://ramsar.org/pictures/wwd2009-aa-comic2-e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ならびに文字無し画像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[jpeg file 1.4 MB] http://ramsar.org/pictures/wwd2009-aa-comic2-no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和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http://www.biwa.ne.jp/%7enio/ramsar/outreach/wwd2009comic2j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条約事務局の文字無し画像の上に和訳文を表記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FFB-0BA2-4C5A-8B37-6D290DB5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DA0-0738-4917-A773-4471D899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F8F-A9AB-4265-BFCA-CB26EE14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F56-9D4A-4ADC-84DF-A611A12B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936-B769-4573-A4EA-94E0B33F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FD4-0847-45FB-AE64-95CFE51F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194-BCC5-4296-9A92-0F747841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179-5D40-4F83-9E6A-CA214D7B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EC3-E389-4C1A-8D5D-EC3CC14E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3DA-470C-4154-ABAE-2ECAD6BC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EB7-1846-4354-8C0E-5FCACAC0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E17-6F99-458C-9D37-AD910211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BEF9-C515-4144-BD3E-8286514358D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wd2009-aa-comic1-no2" descr=""/>
          <p:cNvPicPr/>
          <p:nvPr/>
        </p:nvPicPr>
        <p:blipFill>
          <a:blip r:embed="rId1"/>
          <a:stretch/>
        </p:blipFill>
        <p:spPr>
          <a:xfrm>
            <a:off x="546120" y="2208240"/>
            <a:ext cx="7924680" cy="246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3960" y="2552760"/>
            <a:ext cx="14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なにしてるんだ。ティ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9280" y="2579760"/>
            <a:ext cx="102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実験だ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53160" y="251460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世界の上下をひっくりかえせば、上流からのすべてのゴミを戻せないかと思って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7120" y="6629040"/>
            <a:ext cx="26668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年世界湿地の日のための３コマ漫画（１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wwd2009-aa-comic2-no2" descr=""/>
          <p:cNvPicPr/>
          <p:nvPr/>
        </p:nvPicPr>
        <p:blipFill>
          <a:blip r:embed="rId1"/>
          <a:stretch/>
        </p:blipFill>
        <p:spPr>
          <a:xfrm>
            <a:off x="595440" y="2143080"/>
            <a:ext cx="764676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28880" y="2486160"/>
            <a:ext cx="2590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すべてのものが上流から下流へ流れるのはどうしようも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7120" y="6629040"/>
            <a:ext cx="26668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年世界湿地の日のための３コマ漫画（２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05640" y="2457360"/>
            <a:ext cx="2361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悪い物ばかりじゃなく一つ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くらい、いいものを流そ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2:00:24Z</dcterms:created>
  <dc:creator>BRK</dc:creator>
  <dc:description/>
  <dc:language>en-US</dc:language>
  <cp:lastModifiedBy>BRK</cp:lastModifiedBy>
  <dcterms:modified xsi:type="dcterms:W3CDTF">2008-11-20T07:22:25Z</dcterms:modified>
  <cp:revision>9</cp:revision>
  <dc:subject/>
  <dc:title>2009年世界湿地の日のための３コマ漫画</dc:title>
</cp:coreProperties>
</file>