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80B1-0C6D-44EB-A476-8BA977D3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図１．ラムサール条約の「湿地の生態学的特徴」の枠組み．ミレニアム生態系評価（ＭＡ）の生態系サービスの概念図（ＭＡ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．「ミレニアム生態系評価の枠組み」第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頁の図２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１）を組み込んでラムサール条約の湿地の生態学的特徴の定義を図に展開した．ＭＡにおいて生態系は『生物群集と非生物環境（あわせて「生態系構成要素」）の複合体であり，それらは「生態学的プロセス」を通じて相互作用することによって人類にさまざまな恩恵（「生態系サービス」）を与えるものである』と記述される．ラムサール条約の「湿地の生態学的特徴」は『ある時点での湿地を特徴づける生態系構成要素，プロセス，および恩恵／サービスの組み合わせ』と定義される（決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X.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付属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年）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C8F-AAFD-4376-8E1E-60CCD853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C47-58C5-4E56-8B01-B78C5E5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56D-9706-416B-8283-9F17020F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DD1-B1C0-4F1F-AA14-F39EDFEA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2ED-BC21-47B8-9488-42B55533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45E-24DA-4298-9178-EE63A4A9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EEA-E87D-4B08-9456-239281AD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C6B-A147-4DCA-B693-878730F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C5A-8770-4154-A205-C2AB62A0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0E7-57AA-45D7-B341-A8FFD40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888-2E4B-4264-BD80-DD67842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288-7B21-433F-BEA7-1A1AA2D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22D8-F4D9-42B9-A1BE-4AED4F25E0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4194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P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での新たな定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81080" y="1830240"/>
          <a:ext cx="6940800" cy="4551480"/>
        </p:xfrm>
        <a:graphic>
          <a:graphicData uri="http://schemas.openxmlformats.org/drawingml/2006/table">
            <a:tbl>
              <a:tblPr/>
              <a:tblGrid>
                <a:gridCol w="3470400"/>
                <a:gridCol w="3470400"/>
              </a:tblGrid>
              <a:tr h="221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生物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物理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化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143000" y="152280"/>
            <a:ext cx="776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66"/>
                </a:solidFill>
                <a:latin typeface="Arial"/>
              </a:rPr>
              <a:t>ラムサール条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97000" y="63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湿地の生態学的特徴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1000" y="6583320"/>
            <a:ext cx="58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琵琶湖ラムサール研究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006) http://www.biwa.ne.jp/%7enio/ramsar/ovwis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amsar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7488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48480" y="1897920"/>
            <a:ext cx="3095640" cy="520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構成要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040" y="4843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決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X.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付属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82436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261480" y="3572640"/>
            <a:ext cx="3132360" cy="97164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640"/>
              <a:gd name="textAreaBottom" fmla="*/ 841680 h 97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080000" y="3572280"/>
            <a:ext cx="3132360" cy="97128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280"/>
              <a:gd name="textAreaBottom" fmla="*/ 841320 h 97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45560" y="2541600"/>
            <a:ext cx="1033560" cy="3051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学的プロセ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60880" y="2597040"/>
          <a:ext cx="3981240" cy="3078360"/>
        </p:xfrm>
        <a:graphic>
          <a:graphicData uri="http://schemas.openxmlformats.org/drawingml/2006/table">
            <a:tbl>
              <a:tblPr/>
              <a:tblGrid>
                <a:gridCol w="1326960"/>
                <a:gridCol w="1327320"/>
                <a:gridCol w="1326960"/>
              </a:tblGrid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供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調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文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55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支持サービ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40240" y="3396960"/>
            <a:ext cx="3382920" cy="13737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恩恵／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サービ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601440"/>
            <a:ext cx="947880" cy="947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類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社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67440" y="3805200"/>
            <a:ext cx="582480" cy="674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1:09:19Z</dcterms:created>
  <dc:creator>琵琶湖ラムサール研究会</dc:creator>
  <dc:description/>
  <dc:language>en-US</dc:language>
  <cp:lastModifiedBy>Y. Miyabayashi</cp:lastModifiedBy>
  <dcterms:modified xsi:type="dcterms:W3CDTF">2006-08-12T22:42:58Z</dcterms:modified>
  <cp:revision>44</cp:revision>
  <dc:subject/>
  <dc:title>ラムサール条約の「湿地の生態学的特徴」の枠組み</dc:title>
</cp:coreProperties>
</file>