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F884-3F4D-493D-A69C-15A641385B3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図４．湿地サービスの統合的評価と価値評価の枠組み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doc24f4j.ppt.zi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］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凡例］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FU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多機能利用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V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全経済価値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I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環境影響評価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意思決定支援システム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B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コスト・ベネフィット分析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マルチクライテリア分析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ラムサール条約第９回締約国会議文書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：情報文書「『湿地目録、評価及びモニタリングの統合的枠組み』（決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X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書Ｅ）に含まれる評価ツール」．原文：ラムサール条約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5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；日本語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6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．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_doc24_j.ht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843-B04A-4E6C-B04B-A6222BBF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872-0A74-4286-93A5-AB0B7EE7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831-81CC-49D6-93A9-3D7A81BE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1E1-2A9F-4122-B1B1-D7398399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13B-F00D-4348-8C93-E4F36D7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7AA-3F13-447E-A721-5C1DEE3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451-0D3A-4A01-9413-F0DA135D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4D1-C650-406D-8E42-4D975A4D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1D5-3979-4AB6-B982-AAE20A7B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B3D-2822-4701-8C87-B484E1A6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71E-DE57-4047-82C6-E218A28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6DA-3A38-447B-9B63-B51207A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9281-2B94-4A6E-B896-C8EE3E561E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49568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2480" y="768240"/>
            <a:ext cx="297180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１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価値評価の目的，政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・制度状況の明確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05120"/>
            <a:ext cx="99072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M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053520"/>
            <a:ext cx="4724280" cy="728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．利害関係者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特定と優先順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075920"/>
            <a:ext cx="3809880" cy="10029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機能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財とサービスの特定と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支持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整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供給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254560"/>
            <a:ext cx="380988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４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財とサービスの価値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財とサービスの重要性の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生態学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社会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済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6553080"/>
            <a:ext cx="259092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レードオフ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例：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B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，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C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477120"/>
            <a:ext cx="1143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参加型ア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プロー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64771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594560"/>
            <a:ext cx="19810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7594560"/>
            <a:ext cx="27241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管理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201160"/>
            <a:ext cx="5029200" cy="48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５．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対話と普及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962520"/>
            <a:ext cx="60984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利害関係者の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038480"/>
            <a:ext cx="6098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専門家への諮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1295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295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8560" y="1752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219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21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856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6934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6934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17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7467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520" y="7772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7772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6840" y="7772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" y="2286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324480" y="2361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2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7848720"/>
            <a:ext cx="30456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76" y="40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66520" y="7924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7924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81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81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44956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6:09:31Z</dcterms:created>
  <dc:creator>原文：ラムサール条約；日本語訳：琵琶湖ラムサール研究会，2006年．</dc:creator>
  <dc:description/>
  <dc:language>en-US</dc:language>
  <cp:lastModifiedBy>BRK</cp:lastModifiedBy>
  <dcterms:modified xsi:type="dcterms:W3CDTF">2008-06-18T03:26:23Z</dcterms:modified>
  <cp:revision>19</cp:revision>
  <dc:subject/>
  <dc:title>ＣＯＰ９文書24図４「湿地サービスの統合的評価と価値評価の枠組み」</dc:title>
</cp:coreProperties>
</file>