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095D-09AB-4580-826E-110460894BC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決議Ⅸ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１付属書Ｅ「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湿地目録、評価及びモニタリングの統合的枠組み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図１．湿地目録への階層式取組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。各レベルに最適なデータフィールドが示されており、レベル４（三角形の底部）では、最も多くのデータが収集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「ラムサール条約第９回締約国会議の記録」（環境省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）より了解を得て再録，琵琶湖ラムサール研究会，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年．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http://www.biwa.ne.jp/%7enio/ramsar/cop9/res_ix_01_annexe_j1.ppt.zi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687A-4341-44B1-AB48-F75967BB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9811-94CB-4B25-BC8C-D0AF910A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2058-0A25-4529-9144-4163F5BB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0D8F-CAE4-44A7-A56F-8D6A2687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6384-AC1E-41B1-AD54-17615203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559B-8AC8-492E-811D-AB6FA569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4895-AAFF-40D9-8CA1-7DA23E46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494D-D2E9-48FD-90AE-4948A160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3154-AE9D-4ACC-A6E8-C7FFC010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3684-2692-48EB-A0CD-BE23561F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9B2C-28A4-44A6-B68A-F2CB50D5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A613-5808-42BC-B062-2D434082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F3DC-6668-41FA-AFD5-88414307DC47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6220800"/>
            <a:ext cx="914400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湿地目録への階層式取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48288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各レベルに最適なデータフィールドが示されており、レベル４（三角形の底部）では、最も多くのデータが収集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決議Ⅸ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１付属書Ｅ「湿地目録、評価及びモニタリングの統合的枠組み」図１（環境省．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．「ラムサール条約第９回締約国会議の記録」より）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7640" y="596880"/>
            <a:ext cx="5054400" cy="46544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81240" y="1665360"/>
            <a:ext cx="4186440" cy="331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12880" y="2666880"/>
            <a:ext cx="4665960" cy="331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70000" y="3755880"/>
            <a:ext cx="5207040" cy="331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395520" y="1830240"/>
            <a:ext cx="3554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964960" y="2832120"/>
            <a:ext cx="3984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96880" y="3921120"/>
            <a:ext cx="455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56120" y="998640"/>
            <a:ext cx="1117440" cy="261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地質学、気候、生物地理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59200" y="2125800"/>
            <a:ext cx="1509840" cy="261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位置、海抜、面積、気候、水文学、植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98840" y="3081240"/>
            <a:ext cx="2232000" cy="261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位置、物理学的、物理化学的、及び、生物学的特性、管轄区分、生態系サービ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1160" y="4251240"/>
            <a:ext cx="3268800" cy="596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位置、物理学的、物理化学的、及び、生物学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特性（生態学的特徴）、土地所有形態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土地利用、管理上の問題及び脅威、他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49400" y="5492880"/>
            <a:ext cx="3530880" cy="596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ＧＩＳインターフェースを備えたデータベースに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保管される、基本的な（「核となる」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993300"/>
                </a:solidFill>
                <a:latin typeface="Arial"/>
              </a:rPr>
              <a:t>目録データセッ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2320" y="1128600"/>
            <a:ext cx="1117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レベル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河川流域や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72240" y="2104920"/>
            <a:ext cx="1117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レベル２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湿地地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16560" y="3191040"/>
            <a:ext cx="1117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レベル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湿地複合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94360" y="4254480"/>
            <a:ext cx="847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レベル４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湿地環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436680"/>
            <a:ext cx="882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縮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（便宜的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56120" y="18432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993300"/>
                </a:solidFill>
                <a:latin typeface="Arial"/>
              </a:rPr>
              <a:t>目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614840" y="5016600"/>
            <a:ext cx="0" cy="357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874880" y="950760"/>
            <a:ext cx="1874880" cy="344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33640" y="1371600"/>
            <a:ext cx="9432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1:1 000 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41520" y="2332080"/>
            <a:ext cx="9432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1:250 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63720" y="3400560"/>
            <a:ext cx="94284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1:50 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77800" y="4467240"/>
            <a:ext cx="75276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1:10 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08:27:57Z</dcterms:created>
  <dc:creator>「ラムサール条約第９回締約国会議の記録」（環境省 2008）より了解を得て再録，琵琶湖ラムサール研究会，2008年．</dc:creator>
  <dc:description/>
  <dc:language>en-US</dc:language>
  <cp:lastModifiedBy>BRK</cp:lastModifiedBy>
  <dcterms:modified xsi:type="dcterms:W3CDTF">2008-11-22T03:04:10Z</dcterms:modified>
  <cp:revision>10</cp:revision>
  <dc:subject>図１．湿地目録への階層式取組。</dc:subject>
  <dc:title>決議Ⅸ.１付属書Ｅ「湿地目録、評価及びモニタリングの統合的枠組み」</dc:title>
</cp:coreProperties>
</file>