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78B4-F5F1-4347-8535-BC1576FC0B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［英語原典：ラムサール条約事務局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World Wetlands Day 2009 Materials: Comic strip 1.  [jpeg file 586 KB] http://ramsar.org/pictures/wwd2009-aa-comic1-e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ならびに文字無し画像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[jpeg file 530 KB] http://ramsar.org/pictures/wwd2009-aa-comic1-no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［和訳：琵琶湖ラムサール研究会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http://www.biwa.ne.jp/%7enio/ramsar/outreach/wwd2009comic1j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条約事務局の文字無し画像の上に和訳文を表記．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［英語原典：ラムサール条約事務局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World Wetlands Day 2009 Materials: Comic strip 2.  [jpeg file 1.5 MB] http://ramsar.org/pictures/wwd2009-aa-comic2-e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ならびに文字無し画像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[jpeg file 1.4 MB] http://ramsar.org/pictures/wwd2009-aa-comic2-no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［和訳：琵琶湖ラムサール研究会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http://www.biwa.ne.jp/%7enio/ramsar/outreach/wwd2009comic2j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条約事務局の文字無し画像の上に和訳文を表記．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B601-3081-4BDB-9A5C-1EF87CAA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E5E-02FC-4816-B290-0BDC4F91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0FD-FC27-48CF-A84D-FB24E473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A19-402B-42DA-A698-90BFCCD9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A72-A50F-4CC2-97DF-5EF78393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7246-4701-4E9D-A3F4-E5D412F5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57A-6854-4260-AB42-470A1683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B6E-CFA2-4BEA-992E-07BCCCC7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254-7474-4683-8EDD-272DB267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65B-F6FC-4526-9AC9-C1EA4D8B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2D5-8CE6-4E13-AC81-45E885EB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E3A-C614-4A0C-A06F-F3356FA5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4F20-4948-4618-8FF8-79C8E3724DE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wd2009-aa-comic1-no2" descr=""/>
          <p:cNvPicPr/>
          <p:nvPr/>
        </p:nvPicPr>
        <p:blipFill>
          <a:blip r:embed="rId1"/>
          <a:stretch/>
        </p:blipFill>
        <p:spPr>
          <a:xfrm>
            <a:off x="546120" y="2208240"/>
            <a:ext cx="7924680" cy="2465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23960" y="2552760"/>
            <a:ext cx="144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なにしてるんだ。ティ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9280" y="2579760"/>
            <a:ext cx="102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実験だ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53160" y="251460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世界の上下をひっくりかえせば、上流からのすべてのゴミを戻せないかと思って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7120" y="6629040"/>
            <a:ext cx="26668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年世界湿地の日のための３コマ漫画（１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wwd2009-aa-comic2-no2" descr=""/>
          <p:cNvPicPr/>
          <p:nvPr/>
        </p:nvPicPr>
        <p:blipFill>
          <a:blip r:embed="rId1"/>
          <a:stretch/>
        </p:blipFill>
        <p:spPr>
          <a:xfrm>
            <a:off x="595440" y="2143080"/>
            <a:ext cx="764676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28880" y="2486160"/>
            <a:ext cx="2590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すべてのものが上流から下流へ流れるのはどうしようも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7120" y="6629040"/>
            <a:ext cx="26668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年世界湿地の日のための３コマ漫画（２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05640" y="2457360"/>
            <a:ext cx="2361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悪い物ばかりじゃなく一つ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くらい、いいものを流そ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2:00:24Z</dcterms:created>
  <dc:creator>BRK</dc:creator>
  <dc:description/>
  <dc:language>en-US</dc:language>
  <cp:lastModifiedBy>BRK</cp:lastModifiedBy>
  <dcterms:modified xsi:type="dcterms:W3CDTF">2008-11-20T07:22:25Z</dcterms:modified>
  <cp:revision>9</cp:revision>
  <dc:subject/>
  <dc:title>2009年世界湿地の日のための３コマ漫画</dc:title>
</cp:coreProperties>
</file>