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1B46-DC17-4FF3-876C-205F0F2CCE1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図４．湿地サービスの統合的評価と価値評価の枠組み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［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www.biwa.ne.jp/%7enio/ramsar/cop9/cop9doc24f4j.ppt.zi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］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凡例］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FU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多機能利用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EV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全経済価値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I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環境影響評価；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S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意思決定支援システム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B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コスト・ベネフィット分析；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C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マルチクライテリア分析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ラムサール条約第９回締約国会議文書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：情報文書「『湿地目録、評価及びモニタリングの統合的枠組み』（決議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X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付属書Ｅ）に含まれる評価ツール」．原文：ラムサール条約，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005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年；日本語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006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年．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www.biwa.ne.jp/%7enio/ramsar/cop9/cop9_doc24_j.ht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039-B325-45FD-A28A-A30A25C9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C6D-A546-4B9A-AF2E-EFF9F2E3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C82-6F15-40AE-B066-758EE5F5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521-E4D4-43C8-93A6-D2B1B943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81E-1B70-4ADF-B258-68A2061B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E0C-4039-46F4-9230-6C41A5DE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654-D842-4B75-A6D3-9A2A419F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489-5D97-4FAA-96A4-723CB790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D60-B277-4EF9-9D08-3FB3AA8B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BD7-B85F-4F3B-8BED-A35395C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E1E-4153-4A66-BF3F-DE8567F9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941-FC4A-4BAC-9342-974B9854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ACCD-D572-4DD0-8AC6-220C5701DE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49568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52480" y="768240"/>
            <a:ext cx="2971800" cy="97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１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政策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価値評価の目的，政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・制度状況の明確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905120"/>
            <a:ext cx="99072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M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1905120"/>
            <a:ext cx="106668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1905120"/>
            <a:ext cx="106668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053520"/>
            <a:ext cx="4724280" cy="728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．利害関係者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特定と優先順位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075920"/>
            <a:ext cx="3809880" cy="10029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機能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財とサービスの特定と数量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支持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調整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供給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文化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5254560"/>
            <a:ext cx="3809880" cy="97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４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財とサービスの価値評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財とサービスの重要性の数量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生態学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社会文化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経済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6553080"/>
            <a:ext cx="259092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レードオフ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例：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CBA</a:t>
            </a: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，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CA</a:t>
            </a: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6477120"/>
            <a:ext cx="11430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参加型ア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プロー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647712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7594560"/>
            <a:ext cx="19810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政策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0360" y="7594560"/>
            <a:ext cx="27241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管理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201160"/>
            <a:ext cx="5029200" cy="48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５．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対話と普及活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962520"/>
            <a:ext cx="60984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利害関係者の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038480"/>
            <a:ext cx="6098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専門家への諮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99840" y="1295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295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38560" y="1752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219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1219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3856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38560" y="3733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3856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6934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6934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6176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7467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746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520" y="7772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746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7772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6840" y="7772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" y="22860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324480" y="2361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2720" y="2362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7848720"/>
            <a:ext cx="30456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76" y="40"/>
                  <a:pt x="19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66520" y="7924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7924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81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181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905120"/>
            <a:ext cx="449568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6:09:31Z</dcterms:created>
  <dc:creator>原文：ラムサール条約；日本語訳：琵琶湖ラムサール研究会，2006年．</dc:creator>
  <dc:description/>
  <dc:language>en-US</dc:language>
  <cp:lastModifiedBy>BRK</cp:lastModifiedBy>
  <dcterms:modified xsi:type="dcterms:W3CDTF">2008-06-18T03:26:23Z</dcterms:modified>
  <cp:revision>19</cp:revision>
  <dc:subject/>
  <dc:title>ＣＯＰ９文書24図４「湿地サービスの統合的評価と価値評価の枠組み」</dc:title>
</cp:coreProperties>
</file>