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01CE-E773-413D-87C1-406C07EA3B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英語原典：ラムサール条約事務局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orld Wetlands Day 2009 Materials: Comic strip 1.  [jpeg file 586 KB] http://ramsar.org/pictures/wwd2009-aa-comic1-e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ならびに文字無し画像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[jpeg file 530 KB] http://ramsar.org/pictures/wwd2009-aa-comic1-no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和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biwa.ne.jp/%7enio/ramsar/outreach/wwd2009comic1j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条約事務局の文字無し画像の上に和訳文を表記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英語原典：ラムサール条約事務局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World Wetlands Day 2009 Materials: Comic strip 2.  [jpeg file 1.5 MB] http://ramsar.org/pictures/wwd2009-aa-comic2-e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ならびに文字無し画像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[jpeg file 1.4 MB] http://ramsar.org/pictures/wwd2009-aa-comic2-no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［和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http://www.biwa.ne.jp/%7enio/ramsar/outreach/wwd2009comic2j.jpg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．条約事務局の文字無し画像の上に和訳文を表記．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D85-51DA-41E3-ACE5-79D9A2C2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8FC-10E5-4B6F-84E8-21E73165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924-7797-43E9-B892-3A2B93DD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11F-85C6-4874-934B-50B8A40C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0D1-64FD-4B04-83B6-82F0F4C1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4D0-BD92-4F34-BBAB-750BECF7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5B6-3463-48D7-8797-42DE54EB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CED-CE6C-4327-B87B-A65379FD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02E-6140-46C5-A2AF-FD22D2D6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ECE-C704-4516-8CFD-2873A993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8C8-9380-4562-8C7C-1893F7BC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608-A013-43A6-9701-7AB273D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9F48-8C64-482F-9777-BBA0DA3B6AB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wd2009-aa-comic1-no2" descr=""/>
          <p:cNvPicPr/>
          <p:nvPr/>
        </p:nvPicPr>
        <p:blipFill>
          <a:blip r:embed="rId1"/>
          <a:stretch/>
        </p:blipFill>
        <p:spPr>
          <a:xfrm>
            <a:off x="546120" y="2208240"/>
            <a:ext cx="7924680" cy="246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960" y="255276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なにしてるんだ。ティ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9280" y="2579760"/>
            <a:ext cx="102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実験だ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53160" y="251460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世界の上下をひっくりかえせば、上流からのすべてのゴミを戻せないかと思って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7120" y="6629040"/>
            <a:ext cx="26668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年世界湿地の日のための３コマ漫画（１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wwd2009-aa-comic2-no2" descr=""/>
          <p:cNvPicPr/>
          <p:nvPr/>
        </p:nvPicPr>
        <p:blipFill>
          <a:blip r:embed="rId1"/>
          <a:stretch/>
        </p:blipFill>
        <p:spPr>
          <a:xfrm>
            <a:off x="595440" y="2143080"/>
            <a:ext cx="764676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28880" y="2486160"/>
            <a:ext cx="2590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すべてのものが上流から下流へ流れるのはどうしようも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7120" y="6629040"/>
            <a:ext cx="266688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年世界湿地の日のための３コマ漫画（２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05640" y="2457360"/>
            <a:ext cx="2361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悪い物ばかりじゃなく一つ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くらい、いいものを流そ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2:00:24Z</dcterms:created>
  <dc:creator>BRK</dc:creator>
  <dc:description/>
  <dc:language>en-US</dc:language>
  <cp:lastModifiedBy>BRK</cp:lastModifiedBy>
  <dcterms:modified xsi:type="dcterms:W3CDTF">2008-11-20T07:22:25Z</dcterms:modified>
  <cp:revision>9</cp:revision>
  <dc:subject/>
  <dc:title>2009年世界湿地の日のための３コマ漫画</dc:title>
</cp:coreProperties>
</file>