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8960-3004-42E2-A959-5C61AD2B3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図１．ラムサール条約の「湿地の生態学的特徴」の枠組み．ミレニアム生態系評価（ＭＡ）の生態系サービスの概念図（ＭＡ．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．「ミレニアム生態系評価の枠組み」第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頁の図２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１）を組み込んでラムサール条約の湿地の生態学的特徴の定義を図に展開した．ＭＡにおいて生態系は『生物群集と非生物環境（あわせて「生態系構成要素」）の複合体であり，それらは「生態学的プロセス」を通じて相互作用することによって人類にさまざまな恩恵（「生態系サービス」）を与えるものである』と記述される．ラムサール条約の「湿地の生態学的特徴」は『ある時点での湿地を特徴づける生態系構成要素，プロセス，および恩恵／サービスの組み合わせ』と定義される（決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X.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付属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「湿地の賢明な利用と生態学的特徴の維持の概念的枠組み」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年）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E60-F51C-4455-AC55-472C050B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74B-35E8-49AA-9F47-644B3BDD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BF4-5461-47B3-9AD8-604824D2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560-03D2-4A50-90FB-974220C9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117-2BB9-4C17-8D67-62A0429A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092-7535-4462-8A4D-4A4E2D05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902-72BD-46A7-B284-CD3685EA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660-C10D-4350-B951-742EA24C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960-0038-40B8-9D73-DD23E42D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9ED-CF33-4B71-8883-4ADFAAE8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C19-6A9F-41CB-8994-F2DEFF87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88B-1898-4A0F-AD4F-6CB1BC48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54D0-32CC-40B1-8FA6-E552DBFC22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14194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P9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での新たな定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81080" y="1830240"/>
          <a:ext cx="6940800" cy="4551480"/>
        </p:xfrm>
        <a:graphic>
          <a:graphicData uri="http://schemas.openxmlformats.org/drawingml/2006/table">
            <a:tbl>
              <a:tblPr/>
              <a:tblGrid>
                <a:gridCol w="3470400"/>
                <a:gridCol w="3470400"/>
              </a:tblGrid>
              <a:tr h="2217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生物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物理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化学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143000" y="152280"/>
            <a:ext cx="776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66"/>
                </a:solidFill>
                <a:latin typeface="Arial"/>
              </a:rPr>
              <a:t>ラムサール条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197000" y="63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湿地の生態学的特徴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1000" y="6583320"/>
            <a:ext cx="58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琵琶湖ラムサール研究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2006) http://www.biwa.ne.jp/%7enio/ramsar/ovwis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amsar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74880" cy="106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48480" y="1897920"/>
            <a:ext cx="3095640" cy="5205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系の構成要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8040" y="48434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決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X.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付属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「湿地の賢明な利用と生態学的特徴の維持の概念的枠組み」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82436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261480" y="3572640"/>
            <a:ext cx="3132360" cy="971640"/>
          </a:xfrm>
          <a:custGeom>
            <a:avLst/>
            <a:gdLst>
              <a:gd name="textAreaLeft" fmla="*/ 547920 w 3132360"/>
              <a:gd name="textAreaRight" fmla="*/ 2270880 w 3132360"/>
              <a:gd name="textAreaTop" fmla="*/ 129960 h 971640"/>
              <a:gd name="textAreaBottom" fmla="*/ 841680 h 97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080000" y="3572280"/>
            <a:ext cx="3132360" cy="971280"/>
          </a:xfrm>
          <a:custGeom>
            <a:avLst/>
            <a:gdLst>
              <a:gd name="textAreaLeft" fmla="*/ 547920 w 3132360"/>
              <a:gd name="textAreaRight" fmla="*/ 2270880 w 3132360"/>
              <a:gd name="textAreaTop" fmla="*/ 129960 h 971280"/>
              <a:gd name="textAreaBottom" fmla="*/ 841320 h 97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45560" y="2541600"/>
            <a:ext cx="1033560" cy="3051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学的プロセ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60880" y="2597040"/>
          <a:ext cx="3981240" cy="3078360"/>
        </p:xfrm>
        <a:graphic>
          <a:graphicData uri="http://schemas.openxmlformats.org/drawingml/2006/table">
            <a:tbl>
              <a:tblPr/>
              <a:tblGrid>
                <a:gridCol w="1326960"/>
                <a:gridCol w="1327320"/>
                <a:gridCol w="1326960"/>
              </a:tblGrid>
              <a:tr h="15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供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調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文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55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明朝"/>
                        </a:rPr>
                        <a:t>支持サービ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540240" y="3396960"/>
            <a:ext cx="3382920" cy="13737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態系の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恩恵／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サービ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601440"/>
            <a:ext cx="947880" cy="9471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類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社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67440" y="3805200"/>
            <a:ext cx="582480" cy="674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1:09:19Z</dcterms:created>
  <dc:creator>琵琶湖ラムサール研究会</dc:creator>
  <dc:description/>
  <dc:language>en-US</dc:language>
  <cp:lastModifiedBy>Y. Miyabayashi</cp:lastModifiedBy>
  <dcterms:modified xsi:type="dcterms:W3CDTF">2006-08-12T22:42:58Z</dcterms:modified>
  <cp:revision>44</cp:revision>
  <dc:subject/>
  <dc:title>ラムサール条約の「湿地の生態学的特徴」の枠組み</dc:title>
</cp:coreProperties>
</file>