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DC9B-AB96-4C03-81DD-CF13B6060BA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図４．湿地サービスの統合的評価と価値評価の枠組み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［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http://www.biwa.ne.jp/%7enio/ramsar/cop9/cop9doc24f4j.ppt.zi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］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．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凡例］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FU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多機能利用；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EV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全経済価値；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EI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環境影響評価；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DS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意思決定支援システム；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B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コスト・ベネフィット分析；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C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マルチクライテリア分析．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ラムサール条約第９回締約国会議文書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：情報文書「『湿地目録、評価及びモニタリングの統合的枠組み』（決議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X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付属書Ｅ）に含まれる評価ツール」．原文：ラムサール条約，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005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年；日本語訳：琵琶湖ラムサール研究会，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006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年．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http://www.biwa.ne.jp/%7enio/ramsar/cop9/cop9_doc24_j.htm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．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865-4206-4B57-B82F-9691B502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9C3-8411-4C32-AAF4-759E935E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1A80-ABC9-4562-ABFE-C15C0522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08E-7695-4059-A821-C64BA8B3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4957-126C-42FD-B63B-146768C2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27B-9489-49B1-97C8-9A656B23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6CC-E3E6-48A5-9C2B-06485717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0B7-5F2E-4622-9B2E-66B98AB9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93B-8F23-4B9C-918B-DAE4C65E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D44D-2D32-4F0A-A908-F07B77AC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988-E400-44AF-815E-18DBE46E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5CC-BBB9-47DC-8FCB-C462153C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C34B-4901-41F8-932C-F3055C186BF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49568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52480" y="768240"/>
            <a:ext cx="2971800" cy="972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１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政策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価値評価の目的，政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・制度状況の明確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905120"/>
            <a:ext cx="990720" cy="914400"/>
          </a:xfrm>
          <a:prstGeom prst="flowChartDecision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M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1905120"/>
            <a:ext cx="1066680" cy="914400"/>
          </a:xfrm>
          <a:prstGeom prst="flowChartDecision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T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1905120"/>
            <a:ext cx="1066680" cy="914400"/>
          </a:xfrm>
          <a:prstGeom prst="flowChartDecision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053520"/>
            <a:ext cx="4724280" cy="728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２．利害関係者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特定と優先順位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075920"/>
            <a:ext cx="3809880" cy="10029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３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機能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財とサービスの特定と数量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支持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 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調整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 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供給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 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文化的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5254560"/>
            <a:ext cx="3809880" cy="972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４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財とサービスの価値評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財とサービスの重要性の数量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生態学的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社会文化的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経済的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6553080"/>
            <a:ext cx="259092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レードオフ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例：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CBA</a:t>
            </a:r>
            <a:r>
              <a:rPr b="0" lang="nl-NL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，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CA</a:t>
            </a:r>
            <a:r>
              <a:rPr b="0" lang="nl-NL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6477120"/>
            <a:ext cx="11430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参加型ア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プロー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6477120"/>
            <a:ext cx="9144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7594560"/>
            <a:ext cx="19810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政策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0360" y="7594560"/>
            <a:ext cx="272412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管理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201160"/>
            <a:ext cx="5029200" cy="485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５．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対話と普及活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962520"/>
            <a:ext cx="60984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利害関係者の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038480"/>
            <a:ext cx="60984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専門家への諮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99840" y="1295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12952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38560" y="17524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219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1219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3856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38560" y="37339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3856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3856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6095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6934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6934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6176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7467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7467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66520" y="7772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7467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7772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6840" y="7772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7200" y="22860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324480" y="2361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62720" y="2362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7848720"/>
            <a:ext cx="30456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48"/>
                </a:moveTo>
                <a:cubicBezTo>
                  <a:pt x="32" y="24"/>
                  <a:pt x="64" y="0"/>
                  <a:pt x="96" y="0"/>
                </a:cubicBezTo>
                <a:cubicBezTo>
                  <a:pt x="128" y="0"/>
                  <a:pt x="176" y="40"/>
                  <a:pt x="19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66520" y="7924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7924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81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181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905120"/>
            <a:ext cx="449568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6:09:31Z</dcterms:created>
  <dc:creator>原文：ラムサール条約；日本語訳：琵琶湖ラムサール研究会，2006年．</dc:creator>
  <dc:description/>
  <dc:language>en-US</dc:language>
  <cp:lastModifiedBy>BRK</cp:lastModifiedBy>
  <dcterms:modified xsi:type="dcterms:W3CDTF">2008-06-18T03:26:23Z</dcterms:modified>
  <cp:revision>19</cp:revision>
  <dc:subject/>
  <dc:title>ＣＯＰ９文書24図４「湿地サービスの統合的評価と価値評価の枠組み」</dc:title>
</cp:coreProperties>
</file>