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6694-B3E8-4EB1-8C7E-1BEF8F4BD5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決議Ⅸ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１付属書Ｅ「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湿地目録、評価及びモニタリングの統合的枠組み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図１．湿地目録への階層式取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。各レベルに最適なデータフィールドが示されており、レベル４（三角形の底部）では、最も多くのデータが収集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ラムサール条約第９回締約国会議の記録」（環境省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）より了解を得て再録，琵琶湖ラムサール研究会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ttp://www.biwa.ne.jp/%7enio/ramsar/cop9/res_ix_01_annexe_j1.ppt.zi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4AA-50DA-4CFF-8E37-7021366E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954-54F4-4885-A0A6-485DC25D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501-3168-46A3-A524-2154A080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62C-2568-45D2-8473-FFA2FFCA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D59-0119-4603-8E34-1084026D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9A8-4035-4804-96AB-372BA9C5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5F0-4914-4A8F-8FC1-06BABCD2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92A-E2DB-4C2E-A009-F3652BA4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BFB-F7D8-412C-80F1-37FE4E9C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B40-EF49-4908-A37E-CB5A1721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89A-8BD8-4438-9420-CE8B074F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3E4-17DE-404B-82F3-BD532E12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2A06-7D83-4C13-9746-9FD64B8F259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220800"/>
            <a:ext cx="914400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湿地目録への階層式取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48288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各レベルに最適なデータフィールドが示されており、レベル４（三角形の底部）では、最も多くのデータが収集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決議Ⅸ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１付属書Ｅ「湿地目録、評価及びモニタリングの統合的枠組み」図１（環境省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．「ラムサール条約第９回締約国会議の記録」より）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7640" y="596880"/>
            <a:ext cx="5054400" cy="46544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81240" y="1665360"/>
            <a:ext cx="4186440" cy="331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12880" y="2666880"/>
            <a:ext cx="4665960" cy="331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70000" y="3755880"/>
            <a:ext cx="5207040" cy="331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395520" y="1830240"/>
            <a:ext cx="355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964960" y="2832120"/>
            <a:ext cx="3984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96880" y="3921120"/>
            <a:ext cx="455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56120" y="998640"/>
            <a:ext cx="111744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地質学、気候、生物地理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9200" y="2125800"/>
            <a:ext cx="150984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海抜、面積、気候、水文学、植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8840" y="3081240"/>
            <a:ext cx="223200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物理学的、物理化学的、及び、生物学的特性、管轄区分、生態系サービ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1160" y="4251240"/>
            <a:ext cx="326880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物理学的、物理化学的、及び、生物学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特性（生態学的特徴）、土地所有形態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土地利用、管理上の問題及び脅威、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9400" y="5492880"/>
            <a:ext cx="353088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ＧＩＳインターフェースを備えたデータベース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保管される、基本的な（「核となる」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目録データセ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2320" y="1128600"/>
            <a:ext cx="111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河川流域や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2240" y="2104920"/>
            <a:ext cx="111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２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地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16560" y="3191040"/>
            <a:ext cx="111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複合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94360" y="4254480"/>
            <a:ext cx="84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環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436680"/>
            <a:ext cx="88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縮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（便宜的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56120" y="18432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993300"/>
                </a:solidFill>
                <a:latin typeface="Arial"/>
              </a:rPr>
              <a:t>目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14840" y="5016600"/>
            <a:ext cx="0" cy="35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874880" y="950760"/>
            <a:ext cx="1874880" cy="344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33640" y="1371600"/>
            <a:ext cx="943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1 00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41520" y="2332080"/>
            <a:ext cx="943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25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3720" y="3400560"/>
            <a:ext cx="9428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5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7800" y="4467240"/>
            <a:ext cx="7527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1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8:27:57Z</dcterms:created>
  <dc:creator>「ラムサール条約第９回締約国会議の記録」（環境省 2008）より了解を得て再録，琵琶湖ラムサール研究会，2008年．</dc:creator>
  <dc:description/>
  <dc:language>en-US</dc:language>
  <cp:lastModifiedBy>BRK</cp:lastModifiedBy>
  <dcterms:modified xsi:type="dcterms:W3CDTF">2008-11-22T03:04:10Z</dcterms:modified>
  <cp:revision>10</cp:revision>
  <dc:subject>図１．湿地目録への階層式取組。</dc:subject>
  <dc:title>決議Ⅸ.１付属書Ｅ「湿地目録、評価及びモニタリングの統合的枠組み」</dc:title>
</cp:coreProperties>
</file>