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F91E-C1C1-4328-BCC8-B2DBE9DABB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1.  [jpeg file 586 KB] http://ramsar.org/pictures/wwd2009-aa-comic1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530 KB] http://ramsar.org/pictures/wwd2009-aa-comic1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1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2.  [jpeg file 1.5 MB] http://ramsar.org/pictures/wwd2009-aa-comic2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1.4 MB] http://ramsar.org/pictures/wwd2009-aa-comic2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2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FC-DA3C-4F72-9EF0-8250D906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F95-FFE3-4D6B-9803-D5C56F7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139-F85B-428E-87F7-273CC008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ED0-96FC-4FA4-925F-A19F1EBB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DA6-6130-4A50-B895-2ED3154E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AF8-9833-449A-8700-4B4C3F3D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F12-F6CF-42A6-B1C5-0E3DCE7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CA3-6361-478C-A77D-4B36390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D59-3D73-47D2-9359-FA5DC2F6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863-73DD-4487-BC3F-CD98603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B2C-93A3-430C-856D-AB77950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D63-51CA-4042-897F-6B05BA1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B950-8E88-40CE-85D5-913691055CE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wd2009-aa-comic1-no2" descr=""/>
          <p:cNvPicPr/>
          <p:nvPr/>
        </p:nvPicPr>
        <p:blipFill>
          <a:blip r:embed="rId1"/>
          <a:stretch/>
        </p:blipFill>
        <p:spPr>
          <a:xfrm>
            <a:off x="546120" y="2208240"/>
            <a:ext cx="7924680" cy="246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960" y="255276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なにしてるんだ。ティ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2579760"/>
            <a:ext cx="10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実験だ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3160" y="251460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世界の上下をひっくりかえせば、上流からのすべてのゴミを戻せないかと思って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１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wd2009-aa-comic2-no2" descr=""/>
          <p:cNvPicPr/>
          <p:nvPr/>
        </p:nvPicPr>
        <p:blipFill>
          <a:blip r:embed="rId1"/>
          <a:stretch/>
        </p:blipFill>
        <p:spPr>
          <a:xfrm>
            <a:off x="595440" y="2143080"/>
            <a:ext cx="764676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28880" y="2486160"/>
            <a:ext cx="259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すべてのものが上流から下流へ流れるのはどうしようも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２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5640" y="2457360"/>
            <a:ext cx="2361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悪い物ばかりじゃなく一つ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くらい、いいものを流そ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00:24Z</dcterms:created>
  <dc:creator>BRK</dc:creator>
  <dc:description/>
  <dc:language>en-US</dc:language>
  <cp:lastModifiedBy>BRK</cp:lastModifiedBy>
  <dcterms:modified xsi:type="dcterms:W3CDTF">2008-11-20T07:22:25Z</dcterms:modified>
  <cp:revision>9</cp:revision>
  <dc:subject/>
  <dc:title>2009年世界湿地の日のための３コマ漫画</dc:title>
</cp:coreProperties>
</file>